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79D4-487F-4458-A01F-795046F7A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7680" y="608040"/>
            <a:ext cx="109695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7680" y="1490760"/>
            <a:ext cx="109695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7680" y="3976560"/>
            <a:ext cx="109695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5617-BC0A-4B68-8351-2FF35A36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7680" y="608040"/>
            <a:ext cx="109695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7680" y="1490760"/>
            <a:ext cx="53528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8720" y="1490760"/>
            <a:ext cx="53528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7680" y="3976560"/>
            <a:ext cx="53528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8720" y="3976560"/>
            <a:ext cx="53528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2811-AFF8-4547-9815-E5D215215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7680" y="608040"/>
            <a:ext cx="109695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7680" y="1490760"/>
            <a:ext cx="35319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6760" y="1490760"/>
            <a:ext cx="35319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5480" y="1490760"/>
            <a:ext cx="35319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7680" y="3976560"/>
            <a:ext cx="35319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6760" y="3976560"/>
            <a:ext cx="35319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5480" y="3976560"/>
            <a:ext cx="35319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E148-FA43-45F5-8994-C4299AC30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7680" y="608040"/>
            <a:ext cx="109695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7680" y="1490760"/>
            <a:ext cx="109695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C933-AB53-45AA-A70E-15A1EEDC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7680" y="608040"/>
            <a:ext cx="109695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7680" y="1490760"/>
            <a:ext cx="1096956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2D83-4004-4996-BA8E-2129891C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7680" y="608040"/>
            <a:ext cx="109695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7680" y="1490760"/>
            <a:ext cx="535284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8720" y="1490760"/>
            <a:ext cx="535284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7288-B725-44FD-B0F2-87EC14C1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7680" y="608040"/>
            <a:ext cx="109695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78D9-CCB3-480B-A3E1-1CF7A7D9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7680" y="608040"/>
            <a:ext cx="1096956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0F5E-4ED5-487F-9CBB-9E571215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7680" y="608040"/>
            <a:ext cx="109695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7680" y="1490760"/>
            <a:ext cx="53528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8720" y="1490760"/>
            <a:ext cx="535284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7680" y="3976560"/>
            <a:ext cx="53528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756D-E44D-488C-BCD4-8140570B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7680" y="608040"/>
            <a:ext cx="109695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7680" y="1490760"/>
            <a:ext cx="535284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8720" y="1490760"/>
            <a:ext cx="53528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8720" y="3976560"/>
            <a:ext cx="53528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CFCC-B127-4547-BBE3-9880F1E5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7680" y="608040"/>
            <a:ext cx="109695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7680" y="1490760"/>
            <a:ext cx="53528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8720" y="1490760"/>
            <a:ext cx="53528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7680" y="3976560"/>
            <a:ext cx="109695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9BB3-599F-42F4-B640-96BBB5A7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7680" y="608040"/>
            <a:ext cx="109695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7680" y="1490760"/>
            <a:ext cx="1096956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457200" indent="45720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2" marL="91440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4" marL="1828800" indent="-91440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5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6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2360" y="6314760"/>
            <a:ext cx="26989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10CF-C5BC-4304-A4CB-1F19B0C9EEA9}" type="datetime">
              <a:rPr b="0" lang="zh-CN" sz="10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6240" y="631476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876880" y="631476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C5F5-972A-43C7-80A3-B3D72FC05E6C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0" y="1800360"/>
            <a:ext cx="12188880" cy="2016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3071880" y="4504680"/>
            <a:ext cx="6048360" cy="1236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微软雅黑"/>
              </a:rPr>
              <a:t>XXXXXX</a:t>
            </a:r>
            <a:r>
              <a:rPr b="0" lang="zh-CN" sz="2500" spc="-1" strike="noStrike">
                <a:solidFill>
                  <a:srgbClr val="0070c0"/>
                </a:solidFill>
                <a:latin typeface="微软雅黑"/>
              </a:rPr>
              <a:t>公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微软雅黑"/>
              </a:rPr>
              <a:t>2023</a:t>
            </a:r>
            <a:r>
              <a:rPr b="0" lang="zh-CN" sz="2500" spc="-1" strike="noStrike">
                <a:solidFill>
                  <a:srgbClr val="0070c0"/>
                </a:solidFill>
                <a:latin typeface="微软雅黑"/>
              </a:rPr>
              <a:t>年</a:t>
            </a:r>
            <a:r>
              <a:rPr b="0" lang="en-US" sz="2500" spc="-1" strike="noStrike">
                <a:solidFill>
                  <a:srgbClr val="0070c0"/>
                </a:solidFill>
                <a:latin typeface="微软雅黑"/>
              </a:rPr>
              <a:t>x</a:t>
            </a:r>
            <a:r>
              <a:rPr b="0" lang="zh-CN" sz="2500" spc="-1" strike="noStrike">
                <a:solidFill>
                  <a:srgbClr val="0070c0"/>
                </a:solidFill>
                <a:latin typeface="微软雅黑"/>
              </a:rPr>
              <a:t>月</a:t>
            </a:r>
            <a:r>
              <a:rPr b="0" lang="en-US" sz="2500" spc="-1" strike="noStrike">
                <a:solidFill>
                  <a:srgbClr val="0070c0"/>
                </a:solidFill>
                <a:latin typeface="微软雅黑"/>
              </a:rPr>
              <a:t>x</a:t>
            </a:r>
            <a:r>
              <a:rPr b="0" lang="zh-CN" sz="2500" spc="-1" strike="noStrike">
                <a:solidFill>
                  <a:srgbClr val="0070c0"/>
                </a:solidFill>
                <a:latin typeface="微软雅黑"/>
              </a:rPr>
              <a:t>日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201600" y="2240640"/>
            <a:ext cx="11788920" cy="1135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</a:rPr>
              <a:t>新城社区服务中心办公家具供应商集中推荐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五边形 7"/>
          <p:cNvSpPr/>
          <p:nvPr/>
        </p:nvSpPr>
        <p:spPr>
          <a:xfrm rot="5400000">
            <a:off x="539280" y="0"/>
            <a:ext cx="900000" cy="900360"/>
          </a:xfrm>
          <a:custGeom>
            <a:avLst/>
            <a:gdLst>
              <a:gd name="textAreaLeft" fmla="*/ 0 w 900000"/>
              <a:gd name="textAreaRight" fmla="*/ 900360 w 900000"/>
              <a:gd name="textAreaTop" fmla="*/ 0 h 900360"/>
              <a:gd name="textAreaBottom" fmla="*/ 900720 h 9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21" y="0"/>
                </a:lnTo>
                <a:lnTo>
                  <a:pt x="21600" y="10800"/>
                </a:lnTo>
                <a:lnTo>
                  <a:pt x="1652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03440" y="96840"/>
            <a:ext cx="10220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262626"/>
                </a:solidFill>
                <a:latin typeface="方正粗黑宋简体"/>
                <a:ea typeface="方正粗黑宋简体"/>
              </a:rPr>
              <a:t>一、公司介绍及履约能力</a:t>
            </a:r>
            <a:endParaRPr b="1" lang="en-US" sz="3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五边形 7"/>
          <p:cNvSpPr/>
          <p:nvPr/>
        </p:nvSpPr>
        <p:spPr>
          <a:xfrm rot="5400000">
            <a:off x="539280" y="0"/>
            <a:ext cx="900000" cy="900360"/>
          </a:xfrm>
          <a:custGeom>
            <a:avLst/>
            <a:gdLst>
              <a:gd name="textAreaLeft" fmla="*/ 0 w 900000"/>
              <a:gd name="textAreaRight" fmla="*/ 900360 w 900000"/>
              <a:gd name="textAreaTop" fmla="*/ 0 h 900360"/>
              <a:gd name="textAreaBottom" fmla="*/ 900720 h 9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21" y="0"/>
                </a:lnTo>
                <a:lnTo>
                  <a:pt x="21600" y="10800"/>
                </a:lnTo>
                <a:lnTo>
                  <a:pt x="1652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3440" y="96840"/>
            <a:ext cx="10220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262626"/>
                </a:solidFill>
                <a:latin typeface="方正粗黑宋简体"/>
                <a:ea typeface="方正粗黑宋简体"/>
              </a:rPr>
              <a:t>二、有效的法人营业执照、经营许可证</a:t>
            </a:r>
            <a:endParaRPr b="1" lang="en-US" sz="3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五边形 7"/>
          <p:cNvSpPr/>
          <p:nvPr/>
        </p:nvSpPr>
        <p:spPr>
          <a:xfrm rot="5400000">
            <a:off x="539280" y="0"/>
            <a:ext cx="900000" cy="900360"/>
          </a:xfrm>
          <a:custGeom>
            <a:avLst/>
            <a:gdLst>
              <a:gd name="textAreaLeft" fmla="*/ 0 w 900000"/>
              <a:gd name="textAreaRight" fmla="*/ 900360 w 900000"/>
              <a:gd name="textAreaTop" fmla="*/ 0 h 900360"/>
              <a:gd name="textAreaBottom" fmla="*/ 900720 h 9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21" y="0"/>
                </a:lnTo>
                <a:lnTo>
                  <a:pt x="21600" y="10800"/>
                </a:lnTo>
                <a:lnTo>
                  <a:pt x="1652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3440" y="96840"/>
            <a:ext cx="10220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262626"/>
                </a:solidFill>
                <a:latin typeface="方正粗黑宋简体"/>
                <a:ea typeface="方正粗黑宋简体"/>
              </a:rPr>
              <a:t>三、信息采集表</a:t>
            </a:r>
            <a:endParaRPr b="1" lang="en-US" sz="3800" spc="-1" strike="noStrike">
              <a:solidFill>
                <a:srgbClr val="262626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765000" y="900000"/>
          <a:ext cx="10837800" cy="5369040"/>
        </p:xfrm>
        <a:graphic>
          <a:graphicData uri="http://schemas.openxmlformats.org/drawingml/2006/table">
            <a:tbl>
              <a:tblPr/>
              <a:tblGrid>
                <a:gridCol w="365040"/>
                <a:gridCol w="2978280"/>
                <a:gridCol w="423720"/>
                <a:gridCol w="433440"/>
                <a:gridCol w="996840"/>
                <a:gridCol w="970200"/>
                <a:gridCol w="1414440"/>
                <a:gridCol w="1449360"/>
                <a:gridCol w="1160280"/>
                <a:gridCol w="646200"/>
              </a:tblGrid>
              <a:tr h="236520">
                <a:tc gridSpan="10">
                  <a:txBody>
                    <a:bodyPr lIns="12600" rIns="12600" tIns="12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供应商名称（加盖公章）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7880"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序列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名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数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单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品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型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单价（元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合计金额（元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技术参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备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仿宋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多功能厅会议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仿宋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仿宋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会议室椅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仿宋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仿宋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办公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仿宋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仿宋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沙发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仿宋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仿宋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小靠背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仿宋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仿宋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办公椅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(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办公室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仿宋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仿宋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收费处椅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仿宋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仿宋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多功能厅会议桌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(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小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仿宋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仿宋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会议室会议桌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(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大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)(2m*4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仿宋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仿宋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办公桌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(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普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仿宋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仿宋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办公桌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(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木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仿宋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仿宋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诊室桌椅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(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套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仿宋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套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仿宋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主持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仿宋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个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仿宋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更衣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仿宋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个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仿宋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更衣柜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(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木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仿宋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个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仿宋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资料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仿宋"/>
                        </a:rPr>
                        <a:t>2-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个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880"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仿宋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药房衣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仿宋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个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仿宋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穿衣镜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(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长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仿宋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仿宋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镜面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(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水盆上方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仿宋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6">
                  <a:txBody>
                    <a:bodyPr lIns="12600" rIns="12600" tIns="12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仿宋"/>
                        </a:rPr>
                        <a:t>总计金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五边形 7"/>
          <p:cNvSpPr/>
          <p:nvPr/>
        </p:nvSpPr>
        <p:spPr>
          <a:xfrm rot="5400000">
            <a:off x="539280" y="0"/>
            <a:ext cx="900000" cy="900360"/>
          </a:xfrm>
          <a:custGeom>
            <a:avLst/>
            <a:gdLst>
              <a:gd name="textAreaLeft" fmla="*/ 0 w 900000"/>
              <a:gd name="textAreaRight" fmla="*/ 900360 w 900000"/>
              <a:gd name="textAreaTop" fmla="*/ 0 h 900360"/>
              <a:gd name="textAreaBottom" fmla="*/ 900720 h 9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21" y="0"/>
                </a:lnTo>
                <a:lnTo>
                  <a:pt x="21600" y="10800"/>
                </a:lnTo>
                <a:lnTo>
                  <a:pt x="1652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3440" y="96480"/>
            <a:ext cx="102204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262626"/>
                </a:solidFill>
                <a:latin typeface="方正粗黑宋简体"/>
                <a:ea typeface="方正粗黑宋简体"/>
              </a:rPr>
              <a:t>四、产品技术参数、质量安全性。</a:t>
            </a:r>
            <a:endParaRPr b="1" lang="en-US" sz="3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五边形 7"/>
          <p:cNvSpPr/>
          <p:nvPr/>
        </p:nvSpPr>
        <p:spPr>
          <a:xfrm rot="5400000">
            <a:off x="539280" y="0"/>
            <a:ext cx="900000" cy="900360"/>
          </a:xfrm>
          <a:custGeom>
            <a:avLst/>
            <a:gdLst>
              <a:gd name="textAreaLeft" fmla="*/ 0 w 900000"/>
              <a:gd name="textAreaRight" fmla="*/ 900360 w 900000"/>
              <a:gd name="textAreaTop" fmla="*/ 0 h 900360"/>
              <a:gd name="textAreaBottom" fmla="*/ 900720 h 9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21" y="0"/>
                </a:lnTo>
                <a:lnTo>
                  <a:pt x="21600" y="10800"/>
                </a:lnTo>
                <a:lnTo>
                  <a:pt x="1652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31880" y="193320"/>
            <a:ext cx="102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262626"/>
                </a:solidFill>
                <a:latin typeface="方正粗黑宋简体"/>
                <a:ea typeface="方正粗黑宋简体"/>
              </a:rPr>
              <a:t>五、产品档次定位，与其它同类产品或医院现有产品相比优劣性。</a:t>
            </a:r>
            <a:endParaRPr b="1" lang="en-US" sz="35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五边形 7"/>
          <p:cNvSpPr/>
          <p:nvPr/>
        </p:nvSpPr>
        <p:spPr>
          <a:xfrm rot="5400000">
            <a:off x="539280" y="0"/>
            <a:ext cx="900000" cy="900360"/>
          </a:xfrm>
          <a:custGeom>
            <a:avLst/>
            <a:gdLst>
              <a:gd name="textAreaLeft" fmla="*/ 0 w 900000"/>
              <a:gd name="textAreaRight" fmla="*/ 900360 w 900000"/>
              <a:gd name="textAreaTop" fmla="*/ 0 h 900360"/>
              <a:gd name="textAreaBottom" fmla="*/ 900720 h 9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21" y="0"/>
                </a:lnTo>
                <a:lnTo>
                  <a:pt x="21600" y="10800"/>
                </a:lnTo>
                <a:lnTo>
                  <a:pt x="1652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3440" y="96840"/>
            <a:ext cx="10220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262626"/>
                </a:solidFill>
                <a:latin typeface="方正粗黑宋简体"/>
                <a:ea typeface="方正粗黑宋简体"/>
              </a:rPr>
              <a:t>六、市场占有率及同类业绩（业绩数量）</a:t>
            </a:r>
            <a:endParaRPr b="1" lang="en-US" sz="3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五边形 7"/>
          <p:cNvSpPr/>
          <p:nvPr/>
        </p:nvSpPr>
        <p:spPr>
          <a:xfrm rot="5400000">
            <a:off x="539280" y="0"/>
            <a:ext cx="900000" cy="900360"/>
          </a:xfrm>
          <a:custGeom>
            <a:avLst/>
            <a:gdLst>
              <a:gd name="textAreaLeft" fmla="*/ 0 w 900000"/>
              <a:gd name="textAreaRight" fmla="*/ 900360 w 900000"/>
              <a:gd name="textAreaTop" fmla="*/ 0 h 900360"/>
              <a:gd name="textAreaBottom" fmla="*/ 900720 h 9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21" y="0"/>
                </a:lnTo>
                <a:lnTo>
                  <a:pt x="21600" y="10800"/>
                </a:lnTo>
                <a:lnTo>
                  <a:pt x="1652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03440" y="96840"/>
            <a:ext cx="10220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262626"/>
                </a:solidFill>
                <a:latin typeface="方正粗黑宋简体"/>
                <a:ea typeface="方正粗黑宋简体"/>
              </a:rPr>
              <a:t>七、售后服务</a:t>
            </a:r>
            <a:endParaRPr b="1" lang="en-US" sz="3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19T02:08:00Z</dcterms:created>
  <dc:creator>Administrator</dc:creator>
  <dc:description/>
  <dc:language>en-US</dc:language>
  <cp:lastModifiedBy>WGH•ngu</cp:lastModifiedBy>
  <dcterms:modified xsi:type="dcterms:W3CDTF">2023-03-22T09:53:57Z</dcterms:modified>
  <cp:revision>19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B35DB717508A4D30995FEA62135CC226</vt:lpwstr>
  </property>
  <property fmtid="{D5CDD505-2E9C-101B-9397-08002B2CF9AE}" pid="3" name="KSOProductBuildVer">
    <vt:lpwstr>2052-11.1.0.13703</vt:lpwstr>
  </property>
</Properties>
</file>